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685-F0FC-41FC-BFBA-C2FD40B3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08A-1124-47A9-8C04-A185C8B7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D55-D8B3-4013-BE56-73469276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3EA-4F63-4791-B7AB-B0BAD1CB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A91-5D97-44F8-A0FF-39FAEBE8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211-7353-4A34-BD1D-BD23FE85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566-DFFF-4A11-8063-A993141A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B7D-3C4D-4D00-8542-EE85D17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151-B8E9-4E9C-9669-6BDD47E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B53-A734-44EB-9399-DB354BB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50F-9D36-4F5A-88D9-6233BED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E88-4F54-47A9-8820-003193A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5BB89-F91E-41BF-B07F-95BB8AA34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79A55-86D8-4A4F-AE7B-FD0A3F54E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3 Study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3"/>
          <p:cNvSpPr/>
          <p:nvPr/>
        </p:nvSpPr>
        <p:spPr>
          <a:xfrm>
            <a:off x="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336384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595680" y="2789280"/>
            <a:ext cx="207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cellular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933480" y="3603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249880" y="3603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71400" y="1806480"/>
            <a:ext cx="2907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2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body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for growth and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57200" y="3803760"/>
            <a:ext cx="293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Produces cells with the same number of chromosomes as the parent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5918040" y="1654200"/>
            <a:ext cx="2907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4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sex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for genetic var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cells with half the number of chromosomes as the parent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3"/>
          <p:cNvSpPr/>
          <p:nvPr/>
        </p:nvSpPr>
        <p:spPr>
          <a:xfrm>
            <a:off x="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36384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595680" y="2789280"/>
            <a:ext cx="207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reate off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1400" y="360360"/>
            <a:ext cx="33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49880" y="360360"/>
            <a:ext cx="35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39720" y="1728720"/>
            <a:ext cx="29066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s 2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have a combination of DNA from th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will be u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animals and plants can use this type of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918040" y="1654200"/>
            <a:ext cx="2907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s 1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have identical DNA to the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karyotes like bacteria, starfish, sponges, and plants can use this type of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01:12Z</dcterms:created>
  <dc:creator>Caroline Roth</dc:creator>
  <dc:description/>
  <dc:language>en-US</dc:language>
  <cp:lastModifiedBy>Caroline Roth</cp:lastModifiedBy>
  <dcterms:modified xsi:type="dcterms:W3CDTF">2010-10-29T20:18:15Z</dcterms:modified>
  <cp:revision>3</cp:revision>
  <dc:subject/>
  <dc:title>U3 Study Guide</dc:title>
</cp:coreProperties>
</file>